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764F-335B-45D1-96E6-9FB584234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27DA-DAC9-4D74-991E-24680C397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7D00-5F75-418D-9427-266936AF3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3475-0F20-43C5-A7AA-228275C05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2F87-0EDB-4F6C-BA28-B66F30665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5753-495A-463A-99E7-3E647E1E3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544E-F03A-44EE-973D-51D5F5A6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163D-A370-4A6B-BB61-A2352E922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F9BF-0211-43D3-9FEC-7DE319AEB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1B0D-12C7-4BA4-81FD-77B328C1C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4A53-8732-4410-9DA8-7CC9307DC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6D70-B770-4764-82D6-8664EF03F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B91-3FAF-45D4-9BCD-809C812A68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592-5080-4691-A862-E1E0B5C8DD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EACE-8681-4D3F-BBE8-38549B7884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69C-6AF4-4811-B68C-FD427E2AEF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C2A-BC27-49B8-BBD1-2FA1590B51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8965-F112-4487-BA43-6AEC16A0B9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286-CE56-44BB-82DC-BFC2FF1F22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5B99-0CCA-45E6-B549-FA59C3AD5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90C-3463-4085-8E9F-9E06CED52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EEC0-3344-4E3C-9DD9-3C862550B3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E587-E192-4BF6-80B0-AED66E782A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4BA-648D-4BC7-A2FC-CC677E1EF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DB1-41C1-4878-A397-6FCF4F54FE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F3E-2DC7-4557-AD80-89E70A17E2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741-99CE-494D-9D5C-F0CBF45E7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1704-089B-4539-9186-1F43ADF4AA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846-8868-4D61-980A-E4D525CD89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D46-2981-47E4-B691-DD2B1BC43C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5E50-2519-4EB0-807B-9DC3C0A974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9DE6-A379-4EB9-AAE7-252BE0E808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FE18-96F5-43CF-A4F3-9892AB584F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B0B-3ED7-42FD-8616-E35F8AB74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26F-E95F-4F95-A996-422475C858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1EB-633F-4D94-A2AA-6AFEA57839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02:31:00Z</dcterms:modified>
  <cp:revision>29</cp:revision>
  <dc:subject/>
  <dc:title>&lt;Title&gt;</dc:title>
</cp:coreProperties>
</file>